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68A-C79A-4DDE-B411-4E6B0D67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F9D-284C-4D09-9494-8C92AC46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0D4-D793-43AF-923D-2F621918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ADE-6E94-41F7-97AA-800F62AC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CBB3-80D7-4C90-9B6A-D335B54C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F15E-C25B-4DCE-82C9-0DBD0B62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B26B-89E5-47DE-B4A7-1F68E860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BE5F-1E55-4016-935C-93687D35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B91F-5A0E-4852-B49C-3C83D35E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99C6-9574-4015-BA3F-70EDE5FF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B72D-848C-4FF7-95DE-65FF2EF0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535-CE0D-4D76-907C-25E1B627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ADC7-8FB6-4031-901B-4129BD38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0D4B-C9B3-4EBE-8422-44CE599C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F811-737D-4AFB-8F0C-ED41E4CD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DBE3-4946-4887-A32B-C2523587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453A-BB33-4D2F-AC6D-DB8B42DA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F3EA-8A2F-4192-B24A-35272574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1DF75-78F6-4CD7-917F-B4DD803B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313B-474A-4EFE-AC4B-46417B4B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D3483-989B-4F3C-A1C4-3CD0400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2E90-DAE1-4EDD-9FE7-7FE56FFC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FC9-D950-428A-A911-287FE8AA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1C20A-81D0-4003-A9B0-2AE70DEA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084B-583D-4FE2-8C73-BCF2D99B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09DF-E9C7-432B-9FE5-3DCCAA18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67CA5-0030-4BEB-99FA-2B83FADA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6543D-517E-4293-9029-7EE7C326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20AC0-CF48-471F-870D-5245D275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DD87-C696-48D5-B8EB-F983F3FC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917F2-4959-490C-927D-BFC39F77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01326-3461-46BD-9561-7C2A54E1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45DF5-670C-47F3-BDA8-65A87B27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DF3-01BF-49BB-8E67-E7457FA8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AAD71-686E-4A42-8D8A-783EDE15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6D394-8F26-4425-89B6-8CF617C1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53F6F-4817-4CDB-8439-E0404A7F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F274D-1702-4B71-A4B9-4BAFBA33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F2A0-3094-47E7-9043-7BD83738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BAD8C-BD29-45BA-8777-B13F83FE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8CDAB-A18B-43FB-94C3-8A7118DC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AE920-02B5-4536-9C61-2B53BCE8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BD1AA-1448-4D1A-944A-E0F7AEF3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F40-40E6-400E-83BE-E2CE6D89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9E3-641D-442E-A3ED-12403A7F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546-B15C-4BE4-8D66-43DC3A65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8A3-1085-4501-B94B-CAA54E6A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122-3984-4709-B617-5E369E0F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5A2E-9CE2-4F35-8461-A55C41D2AF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6148-F3C2-4BD6-9171-18F7528210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2AE2-06FB-4EF3-A7EA-30869B48020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1C66-0758-4D82-9044-F7C11E1F486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ivsky.com/Photo/391/54047.html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www.luetu.com/pic/95431.htm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00720" y="177336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丰子恺笔下的那只白鹅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0920" y="2708280"/>
            <a:ext cx="201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高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6118200"/>
            <a:ext cx="153828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43000" y="1584360"/>
            <a:ext cx="8001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Arial"/>
              </a:rPr>
              <a:t>腔调  掂量  涟漪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Arial"/>
              </a:rPr>
              <a:t>无忧无虑  属于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Arial"/>
              </a:rPr>
              <a:t>主宰  慢条斯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76212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qiā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8380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diā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72200" y="83808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lián y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26668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l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6668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sh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44956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zǎ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7621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omic Sans MS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这只白公鹅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22096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白公鹅拥有海军上将的派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76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课文从哪几个方面来写白公鹅的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4114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走路的姿态和平时的活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、走路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姿态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是怎样的？划出相关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它走起路来慢条斯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落步之前，他总要先把脚掌往上抬抬，再合上掌蹼，就像收起张开的扇面一样；然后摆一会儿这个姿势，再不慌不忙地把脚掌放到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就是狗在后面追赶，也决不举步奔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14400" y="609480"/>
            <a:ext cx="739152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13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、白鹅）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鹅的步态，更是傲慢了。大体上与鸭相似，但鸭的步调急速，有局促不安之相；鹅的步调从容，大模大样的，颇像京剧里的净角出场。它常傲然地站着，看见有人走来也毫不相让；有时非但不让，竟伸过颈子来咬你一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4</a:t>
            </a:r>
            <a:r>
              <a:rPr b="0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白公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它走起路来慢条斯理，仔细掂量着每一步。落步之前，它总要先把脚掌往上抬抬，再合上掌蹼，就像收起张开的扇面一样；然后摆一会儿这个姿势，再不慌不忙地把脚掌放到地上。通过车辙凌乱而又泥泞的路时，它也那么有办法，身上的任何一根细翎都不沾上一点污泥。就是狗在身后追赶，这只鹅也决不举步奔跑。它总是高傲地、一动不动地挺着长长的脖子，好象头上顶着一罐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284720" y="1413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朗读感悟自己喜欢的段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83664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当白鹅在浅水滩里挺直身子、扇起两只长长的有力的翅膀时，水面上便泛起层层涟漪，岸边的芦苇也会沙沙作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306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你体会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0" y="6118200"/>
            <a:ext cx="153828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90792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这只鹅在整片河湾里最引人注目。它过得无忧无虑，自由自在。青草茂密的河岸属于它，水边最洁净的沙滩也属于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544500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你又想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0" y="6118200"/>
            <a:ext cx="153828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黑体"/>
              </a:rPr>
              <a:t>可最糟糕的是，白鹅把我下了鱼饵的一片水面，也划为自己的地盘。我们为这片水面打了好长时间的官司，它根本没把我放在眼里。有时它率领一伙公鹅横成一排，直奔鱼竿，而且还要赖在那里；有时它们在河对岸洗澡，大声叫唤，拍打翅膀，相互嬉戏。要不，它就与邻近的鹅群来上一场厮打，弄得满河里漂浮着撕咬下来的乱羽。如果赶上这么一场用以耀武扬威的乱子，你就甭想有鱼咬钩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40360" y="580536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黑体"/>
              </a:rPr>
              <a:t>说说你读后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0" y="6118200"/>
            <a:ext cx="153828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鹅大概认为这个世界上的所有东西都属于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它要是知道了连它自己也属于村里的少年斯焦普卡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─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愿意的话，就可以把它抓起来，交给母亲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用它和鲜白菜一起熬汤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─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可就要大吃一惊了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解析】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这是作者调侃的话。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对近似“霸道”的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作者虽然无可奈何，却不憎恨它，之所以这样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是出于一种喜爱。因为喜爱，才留心鹅的一举一动，做种种的遐想，用人的心理去推测鹅的心理，更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了鹅的行为的放肆，增加了幽默的效果，使人觉得很好笑，很有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在这句话中，出现了两个破折号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折号主要有三种作用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注释说明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声音延长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话题转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句话中的两个破折号都有突然转移话题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刚开始叙述的主体是“它”，后来突然改变了角度说“他”，接着又说“它”，因此用破折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284720" y="126828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我们来认识俄国作家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诺索夫描写的鹅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-1066680" y="0"/>
            <a:ext cx="10210680" cy="67705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971640" y="1052640"/>
            <a:ext cx="3887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白公鹅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6118200"/>
            <a:ext cx="153828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这究竟是只什么样的白鹅？请大家再次默读课文，概括一下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     ）的白公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     ）的白公鹅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     ）的白公鹅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2666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耀武扬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3809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威风凛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14600" y="4952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派头十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500720" y="1484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105192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读课文，比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66840" y="1916280"/>
          <a:ext cx="8410320" cy="4533840"/>
        </p:xfrm>
        <a:graphic>
          <a:graphicData uri="http://schemas.openxmlformats.org/drawingml/2006/table">
            <a:tbl>
              <a:tblPr/>
              <a:tblGrid>
                <a:gridCol w="1396800"/>
                <a:gridCol w="3506760"/>
                <a:gridCol w="3506760"/>
              </a:tblGrid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白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白公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①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姿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②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叫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③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步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④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吃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⑤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玩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5651640" y="278136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海军上将的派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11280" y="2781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鹅老爷的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3500280"/>
            <a:ext cx="32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厉声叫嚣 引吭大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4221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傲慢  从容  大模大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3640" y="486900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三眼一板    一丝不苟需要侍候    架子十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92720" y="429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慢条斯理   不慌不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12000" y="3500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大声叫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64000" y="55897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自由自在  无忧无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16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16720" y="472428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67280" y="1052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篇课文重点各写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50706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吃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5805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⑤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玩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0" y="6118200"/>
            <a:ext cx="153828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4500720" y="1484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0" y="105192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读课文，比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66840" y="1916280"/>
          <a:ext cx="8410320" cy="5843520"/>
        </p:xfrm>
        <a:graphic>
          <a:graphicData uri="http://schemas.openxmlformats.org/drawingml/2006/table">
            <a:tbl>
              <a:tblPr/>
              <a:tblGrid>
                <a:gridCol w="1396800"/>
                <a:gridCol w="3875040"/>
                <a:gridCol w="3138480"/>
              </a:tblGrid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白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白公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相同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13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不同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对比的写作手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5651640" y="278136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都写出鹅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2819520"/>
            <a:ext cx="32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都写出了鹅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52480" y="35002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从三个方面写出鹅的高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3505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从两个方面写出鹅的气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64000" y="5589720"/>
            <a:ext cx="36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67280" y="1052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写作手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5280" y="5805360"/>
            <a:ext cx="136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0" y="6118200"/>
            <a:ext cx="1538280" cy="7398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867280" y="5029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拟人夸张的写作手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906120" cy="75614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57200" y="2438280"/>
            <a:ext cx="967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cc"/>
                </a:solidFill>
                <a:latin typeface="Comic Sans MS"/>
              </a:rPr>
              <a:t>你有什么收获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4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095120" cy="10951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838080" y="2208960"/>
            <a:ext cx="761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、找出自己最喜欢的词、句。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74160" y="114624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品读词句，体会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3962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、两位作者对白鹅有什么样的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4800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达了作者对鹅的喜爱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cc"/>
                </a:solidFill>
                <a:latin typeface="Arial"/>
              </a:rPr>
              <a:t>积累</a:t>
            </a:r>
            <a:r>
              <a:rPr b="1" lang="zh-CN" sz="72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慢条斯理   不慌不忙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Arial"/>
              </a:rPr>
              <a:t>车辙凌乱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ffcc"/>
                </a:solidFill>
                <a:latin typeface="Arial"/>
              </a:rPr>
              <a:t>一动不动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cc"/>
                </a:solidFill>
                <a:latin typeface="Arial"/>
              </a:rPr>
              <a:t>引人注目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cccc"/>
                </a:solidFill>
                <a:latin typeface="Arial"/>
              </a:rPr>
              <a:t>无忧无虑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自由自在   耀武扬威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Arial"/>
              </a:rPr>
              <a:t>偷偷摸摸   从从容容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cc"/>
                </a:solidFill>
                <a:latin typeface="Arial"/>
              </a:rPr>
              <a:t>不紧不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给下列多音字组词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: dāng (      ) 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奔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ēn (      )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àng (      )                  bèn (      )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调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iào (      )  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扇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ān (     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iáo (      )                  shàn (     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根据意思写词语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9753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形容动作缓慢，不慌不忙。                  （              ）     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直接进行某件事，不在事前费周折。          （           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掌握、支配人或事物的力量。   （         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1828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慢条斯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径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48120" y="4876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主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括号里填上合适的词语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在括号里填上合适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）的姿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）的脖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）的翅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）的白公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照样子，写词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：不慌不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3505320" cy="3429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9528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耀武扬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板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81480" y="2057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长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近义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荣膺——荣获  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慢条斯理——不慌不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率领——带领  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由自在——无拘无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义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凌乱——整齐  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无忧无虑——忧心忡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2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2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2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2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2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2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有什么不同之处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648320" cy="3485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648320" y="3859200"/>
            <a:ext cx="4495680" cy="2998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876920" y="1600200"/>
            <a:ext cx="3124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公鹅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66680" y="5181480"/>
            <a:ext cx="3333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3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母鹅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--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457200" y="274680"/>
          <a:ext cx="8229600" cy="63849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2743200"/>
                <a:gridCol w="182520"/>
                <a:gridCol w="2560680"/>
              </a:tblGrid>
              <a:tr h="82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白鹅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白公鹅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相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行文结构    先总后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         </a:t>
                      </a:r>
                      <a:r>
                        <a:rPr b="0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拟人的手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不     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3276720" y="22860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描写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55880" y="3200400"/>
            <a:ext cx="649008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黑体"/>
              </a:rPr>
              <a:t>用反语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黑体"/>
              </a:rPr>
              <a:t>（架子十足，鹅老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黑体"/>
              </a:rPr>
              <a:t>                           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黑体"/>
              </a:rPr>
              <a:t>（偷偷摸摸，从从容容，主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83680" y="443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语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83680" y="5734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语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96720" y="4572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鹅老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762240" y="428472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理当荣膺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军上将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5041800" cy="3784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066680" y="609480"/>
            <a:ext cx="5042160" cy="3759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鹅图片00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762120"/>
            <a:ext cx="6629400" cy="5084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查看《鹅_1》全图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19320" y="609480"/>
            <a:ext cx="6767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284720" y="162864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你认为这只鹅会有哪些特点呢？请你推测一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9280" y="9079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自由读课文，读准字音，看看两只鹅有什么异同，作者的写法又与丰子恺的写法有哪些异同？读书时有了新发现，可以在书上写一写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0" y="6118200"/>
            <a:ext cx="153828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1295280"/>
            <a:ext cx="76327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ānɡ          diān         lián        yī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腔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ǜ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shǔ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zǎ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属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46483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qín            yīng         tài         qi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禽 类      荣膺      步 态        腔  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pǔ             diā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掌 蹼            掂 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hé          líng            líng      tǐng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车   辙            凌   乱      细 翎      挺  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án yī                  l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涟 漪          无忧无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shǔ             ěr        shu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属于      鱼 饵          率   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ǒng        dàng        zǎ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竹  筒     勾 当      主  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lài      sī        b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依 赖      厮 打      甭 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āo           xián     p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熬汤      军 衔        攀 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nìng      wū ní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　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ào           t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泥  泞        污 泥     高傲        沙  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zāo gāo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l ú wě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糟    糕         芦 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3-10-22T13:18:1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